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985080" cy="928512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712">
                <a:moveTo>
                  <a:pt x="4" y="0"/>
                </a:moveTo>
                <a:arcTo wR="4" hR="4" stAng="16200000" swAng="-5400000"/>
                <a:lnTo>
                  <a:pt x="0" y="28708"/>
                </a:lnTo>
                <a:arcTo wR="4" hR="4" stAng="10800000" swAng="-5400000"/>
                <a:lnTo>
                  <a:pt x="21596" y="2871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57120" y="-1800"/>
            <a:ext cx="30150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705960"/>
            <a:ext cx="461016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840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182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57120" y="8818200"/>
            <a:ext cx="30150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02B43-4C3F-4509-BE61-CE75513901E4}" type="slidenum"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1160" y="706320"/>
            <a:ext cx="461484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1160" y="706320"/>
            <a:ext cx="462276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AA7-6648-4A50-A8E9-0D05A787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C48E-03D0-4CDE-AC04-EB28AB2F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E0FD-C789-46E2-996B-CBDCB3DD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20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176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20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176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AC8-D151-4486-BD8A-EA32C2AB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5F8E-FFFA-4E4D-98B5-8BCBE176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9B00-74E0-4846-8685-66229225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877A-CFD1-4FB1-B76A-8FEE3404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1EB5-A1DB-46AF-A51C-613A4339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3CFA-C937-451B-B5BC-52C46B21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130320"/>
            <a:ext cx="77594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3669-FB76-4A6D-A898-4DD9914E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4A4B-0646-4ADF-8FC2-889EEF9B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62DC-A711-4D3C-A356-933C60D3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5C87-46CB-43A9-AE58-EF8F1DC5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EBF8-F9ED-4FB7-A66B-1626EB64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3062-DC6F-4ADF-B280-B62BDB71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90DF-863C-4B01-B5DE-B0F51E3F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320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176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320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176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D868-CF32-4B21-A656-39D11922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DA2-76DA-423A-A725-A8579DD2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AF5-2AB5-443A-B87A-C33B2B97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6286-25BA-4D2C-BAE7-B0E3B4A7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30320"/>
            <a:ext cx="77594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6A8-E37B-4D4B-839D-5B6D694A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66B-CFD3-424B-AB3E-D34F37E0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544-D919-44BD-A32E-84D4BE49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811-075C-410F-AEA1-E67590E0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3280" indent="-323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15320" indent="-267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171840"/>
            <a:ext cx="189252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8288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1840"/>
            <a:ext cx="189216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40D35-E5CB-4DB7-9B2B-B4B0FE074610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1150560"/>
            <a:ext cx="775980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520" y="624852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354F2-58FA-440E-9C94-8C70D536319F}" type="slidenum"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OICR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July 16-17, 2008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Cold Spring Harbor Laborat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77480"/>
            <a:ext cx="829620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ood stuff since the last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84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1.0!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few Apollo releas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map 1.0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summer schoo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munity Annotation System 1.0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rameciumDB annotation jambore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thropod Genomics meet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in GMOD 1.0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erialized views (thanks SG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ntology updates (thanks again SG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ock module (thanks ParameciumDB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roved GFF load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lete by GFF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on tap for GMOD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 schema changes (yet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Apollo compatibility stuff (although that problem's already been fixed by Ed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fix to GFF3 preprocessing tool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AS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 1.1, a release of CAS-utils 0.1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ollo-GBrowse CGI using a conf f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 installer (MB?) to make it pret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CAS-utils 0.1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mmer school convinced me both of the need and feasi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Web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76040"/>
            <a:ext cx="77612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MOD Summer School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696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uly 11-13 at NESCent (North Carolina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5 students, 4 instructor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igh level of competence (students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vered: Chado theory and practice, GBrowse, Apollo, CMap, CA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enerally good review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up for this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alk about core GMOD/CAS components: GBrowse, Apollo, MediaWiki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help desk stuff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erMin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mon Gene Pages (agai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31400"/>
            <a:ext cx="776268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ithout further adieu..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